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  <p:sldId id="317" r:id="rId83"/>
    <p:sldId id="318" r:id="rId84"/>
    <p:sldId id="319" r:id="rId85"/>
    <p:sldId id="320" r:id="rId86"/>
    <p:sldId id="321" r:id="rId87"/>
    <p:sldId id="322" r:id="rId88"/>
    <p:sldId id="323" r:id="rId89"/>
    <p:sldId id="324" r:id="rId90"/>
    <p:sldId id="325" r:id="rId91"/>
    <p:sldId id="326" r:id="rId92"/>
    <p:sldId id="327" r:id="rId93"/>
    <p:sldId id="328" r:id="rId94"/>
    <p:sldId id="329" r:id="rId95"/>
    <p:sldId id="330" r:id="rId96"/>
    <p:sldId id="331" r:id="rId97"/>
    <p:sldId id="332" r:id="rId98"/>
    <p:sldId id="333" r:id="rId99"/>
    <p:sldId id="334" r:id="rId100"/>
    <p:sldId id="335" r:id="rId101"/>
    <p:sldId id="336" r:id="rId102"/>
    <p:sldId id="337" r:id="rId103"/>
    <p:sldId id="338" r:id="rId104"/>
    <p:sldId id="339" r:id="rId105"/>
    <p:sldId id="340" r:id="rId106"/>
    <p:sldId id="341" r:id="rId107"/>
    <p:sldId id="342" r:id="rId108"/>
    <p:sldId id="343" r:id="rId109"/>
    <p:sldId id="344" r:id="rId110"/>
    <p:sldId id="345" r:id="rId111"/>
    <p:sldId id="346" r:id="rId112"/>
    <p:sldId id="347" r:id="rId113"/>
    <p:sldId id="348" r:id="rId114"/>
    <p:sldId id="349" r:id="rId115"/>
    <p:sldId id="350" r:id="rId116"/>
    <p:sldId id="351" r:id="rId117"/>
    <p:sldId id="352" r:id="rId118"/>
    <p:sldId id="353" r:id="rId119"/>
    <p:sldId id="354" r:id="rId120"/>
    <p:sldId id="355" r:id="rId121"/>
    <p:sldId id="356" r:id="rId122"/>
    <p:sldId id="357" r:id="rId123"/>
    <p:sldId id="358" r:id="rId124"/>
    <p:sldId id="359" r:id="rId125"/>
    <p:sldId id="360" r:id="rId126"/>
    <p:sldId id="361" r:id="rId127"/>
    <p:sldId id="362" r:id="rId128"/>
    <p:sldId id="363" r:id="rId129"/>
    <p:sldId id="364" r:id="rId130"/>
    <p:sldId id="365" r:id="rId131"/>
    <p:sldId id="366" r:id="rId132"/>
    <p:sldId id="367" r:id="rId133"/>
    <p:sldId id="368" r:id="rId134"/>
    <p:sldId id="369" r:id="rId135"/>
    <p:sldId id="370" r:id="rId136"/>
    <p:sldId id="371" r:id="rId137"/>
    <p:sldId id="372" r:id="rId138"/>
    <p:sldId id="373" r:id="rId139"/>
    <p:sldId id="374" r:id="rId140"/>
    <p:sldId id="375" r:id="rId141"/>
    <p:sldId id="376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slide" Target="slides/slide62.xml"/><Relationship Id="rId84" Type="http://schemas.openxmlformats.org/officeDocument/2006/relationships/slide" Target="slides/slide63.xml"/><Relationship Id="rId85" Type="http://schemas.openxmlformats.org/officeDocument/2006/relationships/slide" Target="slides/slide64.xml"/><Relationship Id="rId86" Type="http://schemas.openxmlformats.org/officeDocument/2006/relationships/slide" Target="slides/slide65.xml"/><Relationship Id="rId87" Type="http://schemas.openxmlformats.org/officeDocument/2006/relationships/slide" Target="slides/slide66.xml"/><Relationship Id="rId88" Type="http://schemas.openxmlformats.org/officeDocument/2006/relationships/slide" Target="slides/slide67.xml"/><Relationship Id="rId89" Type="http://schemas.openxmlformats.org/officeDocument/2006/relationships/slide" Target="slides/slide68.xml"/><Relationship Id="rId90" Type="http://schemas.openxmlformats.org/officeDocument/2006/relationships/slide" Target="slides/slide69.xml"/><Relationship Id="rId91" Type="http://schemas.openxmlformats.org/officeDocument/2006/relationships/slide" Target="slides/slide70.xml"/><Relationship Id="rId92" Type="http://schemas.openxmlformats.org/officeDocument/2006/relationships/slide" Target="slides/slide71.xml"/><Relationship Id="rId93" Type="http://schemas.openxmlformats.org/officeDocument/2006/relationships/slide" Target="slides/slide72.xml"/><Relationship Id="rId94" Type="http://schemas.openxmlformats.org/officeDocument/2006/relationships/slide" Target="slides/slide73.xml"/><Relationship Id="rId95" Type="http://schemas.openxmlformats.org/officeDocument/2006/relationships/slide" Target="slides/slide74.xml"/><Relationship Id="rId96" Type="http://schemas.openxmlformats.org/officeDocument/2006/relationships/slide" Target="slides/slide75.xml"/><Relationship Id="rId97" Type="http://schemas.openxmlformats.org/officeDocument/2006/relationships/slide" Target="slides/slide76.xml"/><Relationship Id="rId98" Type="http://schemas.openxmlformats.org/officeDocument/2006/relationships/slide" Target="slides/slide77.xml"/><Relationship Id="rId99" Type="http://schemas.openxmlformats.org/officeDocument/2006/relationships/slide" Target="slides/slide78.xml"/><Relationship Id="rId100" Type="http://schemas.openxmlformats.org/officeDocument/2006/relationships/slide" Target="slides/slide79.xml"/><Relationship Id="rId101" Type="http://schemas.openxmlformats.org/officeDocument/2006/relationships/slide" Target="slides/slide80.xml"/><Relationship Id="rId102" Type="http://schemas.openxmlformats.org/officeDocument/2006/relationships/slide" Target="slides/slide81.xml"/><Relationship Id="rId103" Type="http://schemas.openxmlformats.org/officeDocument/2006/relationships/slide" Target="slides/slide82.xml"/><Relationship Id="rId104" Type="http://schemas.openxmlformats.org/officeDocument/2006/relationships/slide" Target="slides/slide83.xml"/><Relationship Id="rId105" Type="http://schemas.openxmlformats.org/officeDocument/2006/relationships/slide" Target="slides/slide84.xml"/><Relationship Id="rId106" Type="http://schemas.openxmlformats.org/officeDocument/2006/relationships/slide" Target="slides/slide85.xml"/><Relationship Id="rId107" Type="http://schemas.openxmlformats.org/officeDocument/2006/relationships/slide" Target="slides/slide86.xml"/><Relationship Id="rId108" Type="http://schemas.openxmlformats.org/officeDocument/2006/relationships/slide" Target="slides/slide87.xml"/><Relationship Id="rId109" Type="http://schemas.openxmlformats.org/officeDocument/2006/relationships/slide" Target="slides/slide88.xml"/><Relationship Id="rId110" Type="http://schemas.openxmlformats.org/officeDocument/2006/relationships/slide" Target="slides/slide89.xml"/><Relationship Id="rId111" Type="http://schemas.openxmlformats.org/officeDocument/2006/relationships/slide" Target="slides/slide90.xml"/><Relationship Id="rId112" Type="http://schemas.openxmlformats.org/officeDocument/2006/relationships/slide" Target="slides/slide91.xml"/><Relationship Id="rId113" Type="http://schemas.openxmlformats.org/officeDocument/2006/relationships/slide" Target="slides/slide92.xml"/><Relationship Id="rId114" Type="http://schemas.openxmlformats.org/officeDocument/2006/relationships/slide" Target="slides/slide93.xml"/><Relationship Id="rId115" Type="http://schemas.openxmlformats.org/officeDocument/2006/relationships/slide" Target="slides/slide94.xml"/><Relationship Id="rId116" Type="http://schemas.openxmlformats.org/officeDocument/2006/relationships/slide" Target="slides/slide95.xml"/><Relationship Id="rId117" Type="http://schemas.openxmlformats.org/officeDocument/2006/relationships/slide" Target="slides/slide96.xml"/><Relationship Id="rId118" Type="http://schemas.openxmlformats.org/officeDocument/2006/relationships/slide" Target="slides/slide97.xml"/><Relationship Id="rId119" Type="http://schemas.openxmlformats.org/officeDocument/2006/relationships/slide" Target="slides/slide98.xml"/><Relationship Id="rId120" Type="http://schemas.openxmlformats.org/officeDocument/2006/relationships/slide" Target="slides/slide99.xml"/><Relationship Id="rId121" Type="http://schemas.openxmlformats.org/officeDocument/2006/relationships/slide" Target="slides/slide100.xml"/><Relationship Id="rId122" Type="http://schemas.openxmlformats.org/officeDocument/2006/relationships/slide" Target="slides/slide101.xml"/><Relationship Id="rId123" Type="http://schemas.openxmlformats.org/officeDocument/2006/relationships/slide" Target="slides/slide102.xml"/><Relationship Id="rId124" Type="http://schemas.openxmlformats.org/officeDocument/2006/relationships/slide" Target="slides/slide103.xml"/><Relationship Id="rId125" Type="http://schemas.openxmlformats.org/officeDocument/2006/relationships/slide" Target="slides/slide104.xml"/><Relationship Id="rId126" Type="http://schemas.openxmlformats.org/officeDocument/2006/relationships/slide" Target="slides/slide105.xml"/><Relationship Id="rId127" Type="http://schemas.openxmlformats.org/officeDocument/2006/relationships/slide" Target="slides/slide106.xml"/><Relationship Id="rId128" Type="http://schemas.openxmlformats.org/officeDocument/2006/relationships/slide" Target="slides/slide107.xml"/><Relationship Id="rId129" Type="http://schemas.openxmlformats.org/officeDocument/2006/relationships/slide" Target="slides/slide108.xml"/><Relationship Id="rId130" Type="http://schemas.openxmlformats.org/officeDocument/2006/relationships/slide" Target="slides/slide109.xml"/><Relationship Id="rId131" Type="http://schemas.openxmlformats.org/officeDocument/2006/relationships/slide" Target="slides/slide110.xml"/><Relationship Id="rId132" Type="http://schemas.openxmlformats.org/officeDocument/2006/relationships/slide" Target="slides/slide111.xml"/><Relationship Id="rId133" Type="http://schemas.openxmlformats.org/officeDocument/2006/relationships/slide" Target="slides/slide112.xml"/><Relationship Id="rId134" Type="http://schemas.openxmlformats.org/officeDocument/2006/relationships/slide" Target="slides/slide113.xml"/><Relationship Id="rId135" Type="http://schemas.openxmlformats.org/officeDocument/2006/relationships/slide" Target="slides/slide114.xml"/><Relationship Id="rId136" Type="http://schemas.openxmlformats.org/officeDocument/2006/relationships/slide" Target="slides/slide115.xml"/><Relationship Id="rId137" Type="http://schemas.openxmlformats.org/officeDocument/2006/relationships/slide" Target="slides/slide116.xml"/><Relationship Id="rId138" Type="http://schemas.openxmlformats.org/officeDocument/2006/relationships/slide" Target="slides/slide117.xml"/><Relationship Id="rId139" Type="http://schemas.openxmlformats.org/officeDocument/2006/relationships/slide" Target="slides/slide118.xml"/><Relationship Id="rId140" Type="http://schemas.openxmlformats.org/officeDocument/2006/relationships/slide" Target="slides/slide119.xml"/><Relationship Id="rId141" Type="http://schemas.openxmlformats.org/officeDocument/2006/relationships/slide" Target="slides/slide120.xml"/><Relationship Id="rId142" Type="http://schemas.openxmlformats.org/officeDocument/2006/relationships/slide" Target="slides/slide121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508-A658-4C2B-A04E-46651BE9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379-A311-4260-A912-343FB0C8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DD4EA-79F5-4827-8AEE-B2E881A6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8C066-7CB6-4489-9420-28C07E4E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793E5-7F38-45E3-B42C-BBD87F5B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E1371-8CF9-4352-8E0D-6E4D937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B424E-5169-4C0C-BB61-E805653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E7035-399B-4F13-8147-0FAF147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39149-4045-42FD-82D2-EC2B204F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0BFD-BCDB-4A9C-A7E0-0E741487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45954-937E-4532-A3E9-82DAABF7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0A286-E564-45CC-9054-A4B0BB3D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7B9-D4BD-4150-8F3F-26B6E442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934AA-81BC-4BCA-B8B8-9BA9905D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8A0CF-2336-4BF4-A4D1-631B615F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3569A-2C43-4BB5-B257-91A771DF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C5637-834E-48D0-BC96-6E31F55B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2057A-C5C3-402D-9B94-03137190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047C0-F619-4578-8B9A-FF6754A9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1415E-8147-4088-8BEF-2F48B013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EC670-F14B-4198-8022-3CC2CD7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7E1F2-6AB9-4630-AD85-1947D8A5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FDFB9-2496-4459-99BB-E11D6985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FEA-CC4F-42B5-B81B-B3BBCC92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734F3-BF68-4E9A-80AD-F8045481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26AD6-F23C-465E-86F7-8D0C2286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08393-1EFC-40A8-9A20-29C71180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C453D-6138-497F-AF75-5C9CC3AA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BA4DF-56E1-4C90-8075-B10E4214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3E2D9-72B8-4692-B8A2-67F006D8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59288-01C7-4D2B-AC72-D59829D7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CE80F-E4BF-4D67-BBC5-D3C83077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52543-D71B-4E62-B674-459C5D73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C62A9-6C22-4AAF-9D98-B9DF011A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6055-C457-451B-B82F-74385C19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FF96C-9672-4C71-B6A6-8B4E5FD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E465E-DA77-4D4B-800D-DA7348B0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FE534-6B41-49E0-B606-12620D1B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3033F-C945-42DF-9F76-770A2812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249AD-2CCC-45E0-95DB-73FDF21F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B5311-492F-4ACF-B0C9-5E78242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69182-94FC-447F-B75C-E9276F0C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39081-A2BD-41F2-9BB9-B2388FDD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F2838-763B-4C18-934B-626934F7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218B3-44EB-491D-A3DF-F2F0E65C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8360-E749-4240-813B-335CF20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88792-0D8B-4D2E-B0D4-244F78F7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3D07F-7C92-48A8-AF18-DB7701AE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9F686-8DBA-442B-BA5E-9C87159D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675DF-D1AD-41EC-9A54-6AA5FDAB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FCE86-2A71-44DD-A06A-13FCCA6D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16DF0-3FF1-4658-81D7-D3676FF7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FA58C-6130-4D46-8338-5FD27F79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55B85-4F21-4679-B198-DF0025D7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3B655-ADA0-4A75-A1BC-E6AA36A3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21888-7C18-41E7-AADA-B963D91A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5E57-D666-465C-976F-4132647D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1B408-7780-4A4D-B998-FB3B634C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3A23E-933B-4D65-86CC-1D0336BE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E25DE-8BEE-4EEC-9C32-F2590B8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5EA67-09C4-4480-A1A3-0762DF5E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EE1E7-0C4C-4C8A-91ED-9D48E0F2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5A0FB-CFA6-4C67-8354-7DE3CFA4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A8E60-E6CF-460B-9C4D-9D30B9AD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9184A-52B4-4005-A966-6D2DADFD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DA591-DD07-49D6-ADFA-0D39A564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64579-175F-4943-88BE-4B1D7797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6F71-0360-40D2-AFD3-C553AB2C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50B23-1573-4159-ABC9-687D10F8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160B9-C179-4D33-A7FD-B9CE9185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12E78-303C-40BF-AA93-AB7D15B2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B5D56-004E-4214-A0E8-81ECD66F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DFCFA-7493-433D-9CE8-C1C6108C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A5107-887C-46B1-841A-6729937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F48B4-BFF3-4E98-BCFA-69997BA0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9033A-57A8-4293-955E-846BAA1E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C9A07-A7D7-4C79-8A9C-FB218379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1CE8C-7BD2-4B41-93F1-8622930B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0C3D-F2E0-4DF9-8895-B6E6D157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7E4CD-EAA5-410A-B698-2AC1AC57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8995F-7226-43ED-B963-1080A939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8CE25-80F9-453F-B52E-FC4F85DE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33AAF-DA72-4D8B-A361-38963AE3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C5E82-FB0A-4E11-8833-EF7A861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6DC98-5EE5-44FE-9419-246CCA7B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A69FEA-AD82-48A6-A498-0B704FE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32E1D-F304-4F87-A221-3BA6057E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6A25A-B03D-41B5-9237-891C0E59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370F9-7F63-4861-B435-ACD0BF40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D408-F58D-4452-9314-DDBDB33A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B2B85-9604-40B1-BB81-2D6F187C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F0B77-1E1B-4F1D-8A7D-80EDF9B0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135FE-F6C3-4A1E-BECF-E564CB89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6B448-C7C4-47A4-A5CE-B7BE051E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1AAEB-9C5C-4F19-A150-59522F6C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72BD1-8EBE-4D8C-B7B2-79DF1CD2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A61632-7029-4739-BE7A-49BAC920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C6A5D-57DD-4909-99D4-2E16F3E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134C7-E152-46D4-A467-6B09920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A5C38-CD65-4B64-90C1-ABC3859D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6279-189C-4CD7-B101-24FA090E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D419D-6DD7-4455-A661-F4F4DC90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D39C52-8B44-4063-A044-C40774EE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3BAB6-FA4C-47B2-AFEC-1242FEEF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40B31-4198-44BA-AE73-941BCD2F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B85C8-CC9D-42C3-A95C-E6DB1B6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6C789-387D-44A0-A8EE-84E37F48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D3ED0-C3A5-41FD-8675-1A3F136E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4DDB9-2CDA-48FE-B2D0-AC0F804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5FCEF-1601-4680-BFE6-DA172EBF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C534E-0A1D-40A6-A74A-6B3EF9C6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FB6-4CF0-4E54-B9A1-E563A511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3CE8-2280-4277-9FF4-71A1DE1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F7124-A9F7-46EB-8270-6426B550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F6EA6-BF36-408A-B9AE-EE6E621A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E3D84-C3A2-461F-A496-F132E22E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4D047-03F7-4D22-A2AB-18F2F383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278D1-7766-4D36-BD2B-C8F706B5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B974F-E507-4A5D-9AFB-29FF29CF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9FEB3-9807-4715-A2E5-4159F439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CC572-3647-4D1D-956E-6EFB7F1D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99A87-98DE-4326-9A2D-04A2ECA5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129FC-BF9E-45EB-9ABB-76357AE7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D5D9-F897-44E9-9F0E-7FA866F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8ECAFC-F550-4AE8-B0E3-6FF4DDA1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769C1-C681-4961-9CC3-77F43C5C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38A65-EAE8-4D65-9569-AA2C2E6B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F569F-44D7-4BD3-88BD-A0DC565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97C5E-E44C-400A-99E0-28F26E91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4EA17-EE65-42C8-967F-D793C173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33127-03EC-42F4-BC79-8C2410AF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EBEF1-358A-4742-A729-B0AE6CB6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0E5EFB-A95C-4C30-9753-D75E702C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CBA42-5C29-432F-A480-B4884422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B9A6-B0F9-4C0B-B7E4-AA38EFD8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2E5CC-1A53-421B-BB6B-C63B77C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0BFA0-CB5A-4E8F-8375-42A6E52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09F42-B06F-4D1A-86EF-D7A360AF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679BF-03E8-4D5F-80E2-E4FF769A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F95E0-518A-46F6-BA84-5BED2AFA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50FB7-FC6C-4FE2-9BE5-4DC6DCB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C0513-9B75-45CC-8389-DC592CE9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6591F-2B76-4232-89DE-EB4155B7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4BD81-8920-4C50-99C5-611368CD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10454-7F8B-4AA4-A182-7914C318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A122-BAC5-461F-87D1-28CEE029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BEE88-9675-468F-B9FB-C504B501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27EE57-A150-411C-A264-4B9231FC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556E56-DCA7-4B05-85DA-0723286A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4342E-4E21-4691-8A70-53B10774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FD89B1-034F-4575-9B7B-D61571B6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A8F49F-14FC-4B53-B4F9-19BB3D38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683BA8-AFDC-477D-AB94-02B12175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2BEA2-22E1-407D-B812-EB72913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6A067-25AD-4FEC-9E81-A0963BAD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8CCA3-F329-4DF2-A251-4DD3AA06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3CBA-01F8-49E2-A13D-F6B4882B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1D094-F98B-4957-B0B2-D0566A30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4ED2-D7DC-4175-BE94-0EF1D070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A7672-150D-435E-9A83-3B4DFAF5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AF3A-1D7E-4770-B720-09C5CA84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A757-FCB1-4C4B-9CA1-74C40B98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BE616-CDB0-40A7-A649-EF624319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FF9-7A6F-40A5-994A-2D9F9DD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6F80-42E7-4788-8C17-FFBCFA9A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A41B-EE3F-4A1D-B49A-7F3620C1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1076-14FC-4024-915D-AA02EE28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9C898-5B00-4ACE-92CD-841C71E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B5C9-60C7-4089-AF76-B60846C6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8A00-EC7F-4A0F-962B-8E3C5A09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2B51C-5461-43DF-BB9A-F04DBE72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643C-3115-497A-95B0-A3C0CB8F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D5925-C007-4667-8C67-92935B8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602F6-A8D1-4E82-B013-B71C829E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C57-6861-4AA0-821C-7DFA6F2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3E967-94FC-4F05-B53E-B5A95E42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B690-CAC6-4275-A6C3-06FAAF79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81E9-C00A-4F80-AB6A-B48BB232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0E47C-9316-429B-9366-B98183A2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81C0-C847-4855-A63C-1FE2664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FF57-7F61-4EFE-AAD4-8715C65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D4D9-B20F-4AD4-AECF-7BC83CCE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56CB0-0197-4B45-9E80-92299B48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119AC-C95F-45E3-9D27-37B69113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DA64-64DC-40EE-BF89-8611F0B9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0C3-0A2E-44E2-A4AD-EED94489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65F54-48C1-4DDC-87D6-CCE459BE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28CF-B177-4925-BB2A-FE6D6D12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A1C8E-1E70-41BB-A66D-6A1422FE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6926-4BA7-491E-B173-5390847C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4BD9-341A-416C-9E3D-7588AB9F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AF18-5FD7-42E9-98F8-C23C020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53D7-E2AE-4B4E-BFCF-C5CA9F2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FE5E1-BE1F-402B-B4AC-34AA806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DA3CD-C2CC-4B13-A996-CB262C5C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1367E-057C-4D50-BA76-68F24FE6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8E6-64A3-4117-9BC5-5B4EA49F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F734E-E8EF-4436-B64D-08D7F6C2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80E8-54A2-47B1-8A43-F70BF8E8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93A9-0C2F-49CD-A43F-60BC34EC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A7AD9-50B5-4E35-A275-86667368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47A3-CD69-4EB0-8C6C-6F90D5AF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76C7-705C-4364-80FD-9247715E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5EBEA-DE1B-46B8-A5DD-D4EE307A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91BE-EFF3-40ED-AC5A-26C55FDD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7656B-798D-4985-A76A-CD6DB22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300E4-7E27-4707-A33F-5152407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D93-BD79-49AD-B8B3-36631243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4E275-87BF-4F63-B623-C9F655F7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27CF3-6A15-4EF4-90DC-3D135D7B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92FB6-9251-499C-AF98-D7633BCC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978B0-9BFB-4A60-A87F-B544CDAE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06268-8659-43A4-AC86-4EE0DAC3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42649-B4B5-4C5C-BA6E-CE5C0F1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1D723-E408-41B5-B7C7-1F87F071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80B6-14E3-4489-BDD1-A34C3264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E0440-D8BC-412C-9965-34628313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4EF3A-9145-4937-8492-2C029B4B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369-2520-4374-80C8-26E42960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82FF-18BE-457F-800B-B6F9D8C7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B9A2-7EFB-4F41-B7A6-C8D6D37F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96CDE-AECE-4E1C-9114-E45DA3A5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94DC7-41B5-4762-BF0C-0DC86A8B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B32E0-29D1-47C2-8B40-44966F8D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EA90A-80B7-42FA-8CB9-6D9C6BDF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9656C-425C-407F-AE14-9E418088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ADE56-0BD3-48DD-AFC2-B8BF3135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573C-AC27-4677-A38D-FF546B2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5969F-B3EF-4623-9B33-397955FC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CAD-4FA9-467E-81C9-EED064BE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9CF7D-1545-4D1E-86C8-0304D15B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B2F54-884E-48D4-971D-7EA515B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5316-BFAE-4155-AE14-1B1A41CF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B9706-0B25-4C82-A227-AF1F66B6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EBBBC-55A9-46BB-9EA9-154C205D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3C932-C7E0-4603-A16C-08424452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6DEBE-B20A-46AD-BE21-B8684486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93D64-EAE0-4D94-AAB4-C1D59F7D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B1049-E5ED-4CB2-B1A9-29D81A74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61B57-8E65-4C68-8EA6-B351455E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AEEF-DA13-49D4-A80A-47667117F708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3BC5-C4BD-42E8-A479-6910251E87E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DCD0-B777-4608-9661-EF9974064F6E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91B4-4ECF-4988-83C7-56A55870EDFF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A010-2100-4AD9-85BD-294132CCC1A8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3A5C-174B-4A57-93DD-08CEB652A15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4821-182E-4467-BC51-14A564300587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C632-0827-441E-BFD9-BA50E340F663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D5E4-F04D-4F5E-B905-EB41A22F2A13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C988-A12B-44D2-89C0-9CA4B2790AA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C181-5061-4C25-B060-511CEFFA4239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ED4-F185-477B-8579-08DCCA1E6559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AA0E-97B9-4F90-BB5E-40755802334C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7FA4-396B-4403-B219-8C865016776D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3C68-83C9-4B82-81E0-1C66C976EC91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BF77-B32C-4130-BE33-8CF8E5DD207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B1A7-A761-4523-A15E-AF15A8833FEF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4BF1-852E-4776-A239-A473F14EF057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64A4-299E-48A1-BD0B-6695EFA9966E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3213-B921-4CFA-949F-8955B907233B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HEM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lead to health disorders at home and at the workpla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egree of herd immunity required to prevent disease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vari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from disease to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bility of individuals to transmi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length of its contag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ode of transmiss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ize of the coll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the relationships within it (closeness and intensity of contacts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existence of collective immunity can be explained by: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bsence of an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a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yclical variatio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some infectious diseases, especially those transmitted by droplets, that is, by direct contac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oces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lf-regul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epidem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totality of external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living and non-livin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that act on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pecific unit or ecological communit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determining their development and surviv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 (Ecospher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ayer of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rth's cru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including water and air, in which all the living world is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- ge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- bi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cience of the relationship between living beings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surrounds them (other individuals of the same species, flora and fauna and the entire inanimate nature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DICAL (HUMAN) EC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studie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relationships between man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have an impact on healt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1. 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includes inanimat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n-living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- the geosphere (water, oxygen, minerals...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m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ydr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h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ABIOTIC (GEOPHYSICAL) ENVIRONMENT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the non-living environment that affect the distribu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health and dise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demic goi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lack of iodine in so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luoros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tooth damage due to increased F2 content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ung canc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creased emanation of radon from the soil increases the natural radioactivity background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he most important chemical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stic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insec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fung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herb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food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synthetic co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preser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antioxid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dicin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omposition of the soil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ypes of flora and fauna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e way of human nutr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il permeability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water supply, water p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in the karst regions, there is a risk of hydric epidemic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RECT influenc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n the topographical distribution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hanks to the English Channel, there is no rabies i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connection of terrain with river valley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influenc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n the topographical distribution of the disease - The configuration of the terrain determines where the settlement will be buil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fects the degree of air pol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košava in Bel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he location of Sarajevo in the bas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most important for the epidemiological situation are the geographical factors that determine the climatic conditions (latitude, altitude)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lar rad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cip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ffect health DIRECTL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heatstroke, frostbite, "white death"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act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urvival m.o. in the extern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e type of flora and fauna affects the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eservoir and carrier behavior (wintering rode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behavior of other animal species (in the temperate zone of the country they do not bite during the cold perio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ctivity of the man himself (field work, hunting, summer vac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1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Living beings and the relationships they establish with each other (depend on social organization and degree of evolutionary developm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lonies of flies and b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commun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2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IRECT EFF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s or plants lead to disorders of human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ectious disease agents (viruses, rickettsiae, bacteria, fungi, protozoa and multicellular parasi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plants (head of rye, corn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animals (spiders, snak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ypersensitivity to otherwise harmless plants and animals (pollen, feathers, etc.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INDIRECT EFFEC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 reservoirs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probability that ticks transmit Lyme disease depends on the type of vegetation (tall grass), the type and number of animals on whose blood the tick f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choice of profession and the type of economy of the social communit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LUENCE ON PEOPLE'S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the past (plants, animals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malnutrition, dying of hunger and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day, relationships in the human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cio-economic status, available patterns of behavi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ffec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ifestyle (diet, smoking, physical activity, alcohol consumption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behavior (certain habits) has an impact on the structure of illness and death (on national patholog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mmunities affected by rapid social chang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or countries becom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"welfare states"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duced physical activity, increased obesity, more diabetes and heart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1" name=""/>
          <p:cNvGraphicFramePr/>
          <p:nvPr/>
        </p:nvGraphicFramePr>
        <p:xfrm>
          <a:off x="152280" y="152280"/>
          <a:ext cx="8763120" cy="6524640"/>
        </p:xfrm>
        <a:graphic>
          <a:graphicData uri="http://schemas.openxmlformats.org/drawingml/2006/table">
            <a:tbl>
              <a:tblPr/>
              <a:tblGrid>
                <a:gridCol w="1866960"/>
                <a:gridCol w="2933640"/>
                <a:gridCol w="3962520"/>
              </a:tblGrid>
              <a:tr h="1189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AGENT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ON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RGANIC (halogen elements, CO, Pb, Hg, acids, base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 (chloroform, ether, alcohol benzene, phenol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BIOLOGICAL origin (toxic mushroom toxins, alkaloids and glycosides of plant origin, snake venoms, insect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emia, hepatitis coma, diabetic coma, hypoglycemic crisis, hypercholesterolemia, hormonal imbalanc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6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olent destruction of existing social relations (wars, revolution) leads to worsening of the epidemiological situ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BIOLOG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uses of infectious disea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ickett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un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tozo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tazo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aracteristics of living agents on which the emergence of INFECTIOUS diseases depends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xcretion from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ntering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aracteristics of living causative agents on which the occurrence of INFECTIOUS disease depends 2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mmun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ensitivity and resistance to drugs and disinfect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istance in the external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– Chernozubov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Obligate parasites outside the body perish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measles, syphilis, gonorrhea, epidemic mening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They survive outside the body for a while, but do NOT reprod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B bacillu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- Chernozubov 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OUTSIDE THE ORGANISM, under favorable conditions, they RE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. typhoid, paratyphoid, cholera, dysen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4. They survive for a long time in the external environment in the form of SP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naerobic bacteria - causes of tetanus, gas gangrene, botulis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eatures of the biological agent responsible for the occurrence of infectious disea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 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? Physiological characteristic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? The ease with which the disease is TRANSMITTED to other h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? The ability of the agent to PENETRATE the host, MAINTAIN itself and REPLICATE (develop in i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LESSON 3 (THIRD WEEK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log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oir of infectious agents and source of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focal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on. Basic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pollution. Environment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LUENCE OF VIRULENCE AND THE QUANTITY OF GERMS ON THE DISEASE AND EPIDEM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IRULENC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gree of pathogeni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ariable property of microorgani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 and environmental factors alter virulence(S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bility to attenuate virulence is used to produce live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number of passages on artificial feeding groun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ttenuation, retain their antigenic properties (live vaccines - MoRuPar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ppearance, course and outcom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ydric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an incubation period longer than average for a given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subclinical and mild atypical infections than exp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thality lower than a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For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limentary epidem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the opposite is tru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Infectious dose required for certain infectious disease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.000,000 cholera ge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000 germs for t. typh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 germs for dysent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um amount for transmissive and some respirator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gnificant in undertaking preventive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coming into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ontact with a small amount of the causative ag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we prevent the occurrence of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ubclinical infections develop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HOST = reservoir and/or sourc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2514600" y="3352680"/>
            <a:ext cx="4114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ical Triass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4116600" y="114228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230040" y="51048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6901920" y="525708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ESERVOIR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A person, animal, arthropod, plant, soil or substance as well as a combination thereof in which an infectious age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ormally LIV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from which i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be transmitted to a SUSCEPTIBL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habitat of the infectious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ofte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t is a living organism, but it can also be an inanimate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il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ores of tetanus, gas gangrene, anthrax, parasite egg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scarias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t water pipe system (show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conditioning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humidifying condense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3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ecessary component of the life cycle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or more reservoirs involved in the circulation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single host as a reservoir of infection is included in the simplest life cycle mode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4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 infectious agent circulates in nature thanks to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agent from person to pers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most infectious diseases (streptococcal and staphylococcal infections, diphtheria, sexually transmitted diseases, child rash fever, parotitis, typhoid fever, amebia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factor whose presence, abundance or relative absence is a NECESSARY CONDITION for the occurrence of a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n can also be a reservoir for some diseases that are transmitted to him from animals (anthropozoonose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ovine TB (from cow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rucellosis (from cows, pigs, go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ax (from shee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ptospirosis (from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abies (from dogs, foxes, wolves...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6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most complex agent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logically different reservoirs and different developmental stages of the infectious agent (echinococcosis, schistosomiasis and malaria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finitio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person, animal, object or substance from which an infectious agent is TRANSMITTED to a susceptible host at a certain moment and leads to the appearance of a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drinking water contaminated with S. typ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a salad contaminated by an infected coo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MOST IMPORTANT RESERVOIR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"/>
          <p:cNvSpPr/>
          <p:nvPr/>
        </p:nvSpPr>
        <p:spPr>
          <a:xfrm>
            <a:off x="5565600" y="20566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5490360" y="4037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8"/>
          <p:cNvSpPr/>
          <p:nvPr/>
        </p:nvSpPr>
        <p:spPr>
          <a:xfrm flipV="1">
            <a:off x="4038480" y="24379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9"/>
          <p:cNvSpPr/>
          <p:nvPr/>
        </p:nvSpPr>
        <p:spPr>
          <a:xfrm>
            <a:off x="3962520" y="35812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Man as a reservoir of infectious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as a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yconoser as a 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dromal s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severe form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mild form of the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 the prodromal stag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the largest number of germs are excreted, the highest infectiv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atarrhal stage of measles, varicella, rubella, vari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icteric stage in viral hepati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milest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sufficiently expressed symptomatolog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not possible to make an exact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asles (measles, variola, varicella, rubella, scarlet fev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seudomembranes on certain organs (diphtheria, inflamm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tussis (pertuss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ingeal syndrome (epidemic menin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ipheral paralysis (polio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have no epidemiological signific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was mad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solation and treatment set in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n drops sharply and lasts for a short time (viral hepatitis A, pertus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evere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fudroagent, fulminant, malignan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ath occurs before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d a large amount of g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variola (variola conflu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droaiant form of epidemic 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diphtheria c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scarlet f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lgid form of chol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patitis A in pregnant wome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agent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t mutually unrelated agents (alternative effect)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complex of two or more agents (cumulative effect)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ambulatory, abortiv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don't go to the do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is w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re not treate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(ambulatory, abortive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inadequately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aricella, measles, rub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scarlet fever without ra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inflammation without pseudo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ertussis without pri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ambulatory form of typhoid f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ommon diarrhea in dysentery and chol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poliomyelitis with catarrhal changes on 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p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 and git. 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iral hepatitis A in childr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deviate from the characteristic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more intense or mild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se patients are epidemiologically very importa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MAN -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TIEN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NON-MANIFEST form of the disease, the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significance gr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king the diagnos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ARRIERS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cubation 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rriers after an illnes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-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ger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hronic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1/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persons whose infection is inapparent throughout its 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 clinical picture-symptoms and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ads to seroconversion as an objective sign of infec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arise in the case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small number of 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Weakly virulent str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artial (specific or non-specific)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leaves immunity of the same quality as in the case of a manifest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diagnosis is made exclusively in the laboratory (isolation of the causative agent, serological re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ccur if there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sence of dis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Healthy or asymptomatic carrier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It is difficult to distinguish them from non-manifest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Excretion of caus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is short-li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ppear during an epidemic of the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mong the persons in the patient's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those who take care of the s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rarely discovered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ore dangerous than germ carriers after previous illn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*)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seases with a high clinical manifestation index (ICM) do not leave germs even after the disease has passed: Measles, varicella, rubella, variola, influenz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Classifications of agents and their characteristic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umer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mpl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ts can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Phy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Chem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3. Biologic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UNMANIFESTED in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importance is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riers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uring incub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= from the penetration of the infectious agent into the host organism to the first symptoms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Short incubation (cold, flu, bacillary dysentery, SP infection, SF intoxic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Long incubation (AIDS, hepatitis B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What affects incub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as number and virule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st sensi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lace of entry into the body (shorter incubation in tetanus after head and neck injur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 in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INCUBATION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. The patient in incubation is NOT a reservoir of infection (chickenpox, variola, measles, pertussis, flu, typhus, paratypho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2. The patient is a reservoir of infection AT THE END of incubation (parotitis, acute viral respiratory diseases, poliomyelit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The patient is a reservoir of infection during a LONGER PERIOD (hepatitis A - second half of incubation, hepatitis B - several weeks in the second part of incubation, hepatitis C - one or more weeks in the second part of incubation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AN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or acute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ronic germinabil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TER HAVING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CUTE carri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fter clinical recovery, people excrete pathogens for a short time (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ximum 3 month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nvalescent, transitory, temporary especially if there was no adequate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RONIC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athogens even 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fter 3 m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 from a chronic illness (several years or until the end of life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 pathogens even after 3 m. from 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quired diseas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several years or until the end o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y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asional (intermitt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rmanent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acillary dysentery – more m. up to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. typhus and paratyphoid – 2-5% of people; in those with chronic inflammation of the gallbladder, bile duct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 renal pelvis, urinary bladder; can b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fecal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urinary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ore dangero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l tor cholera – r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amonellosis – 1% of adults, 5% of children up to 5 years old; longer tha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CHRONI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hronic inflammation of the mucous membra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SP infections -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patitis B – transplacental transmission, HIV, Down's syndrome, hemodialysis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alaria - untreated or insufficiently treat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alciparum –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vax 1-2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quartana – &gt;3 yea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ome diseases (measles, chicken pox, influenza) there is NO asymptomatic 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valescen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rom an epidemiological point of view,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 can be more dangerou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n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is discovered and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rriers move freely and spread the infection to susceptible peop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nsity (phys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(chem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(biological agen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Si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xcrete a large amount of ger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Q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etc. domestic animals, rod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opozoono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rticularly importa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eases of animal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hat can also affect huma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otspo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the wild (wild anima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human settlements (domestic animals, wild animals -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f all animal diseases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nthropozoonoses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(animal diseases from which humans can get sick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e especi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ronounced clinical sig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animal diseases: anthrax, TB, rab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zoot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 with high mortality: plague, tularemi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commonly infected animals do NOT show any signs of illn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xcrete a huge amount of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o the environ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with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in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rodents... with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ons are often maintaine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zooticall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 free nat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mong wil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domestic animals and synanthropic rodents (mice, ra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nthropozoonoses according to et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Bacterial: anthrax, bovine TB, tularemia, leptospirosis, malleus - sakagia, pla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ral: rabies, psittacosis-ornithosis, слинавка-шап, yellow fever, seasonal encephalitis, viral hemorrhagic feve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Rickettsial: Q - fever and other spot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reckl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rotozoal: toxoplasmosis, schistosomiasis, leishmaniasis, trypanosomi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lminth infections: taeniasis, echinococcosis, trichin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ungal: microsporia, trichophytia, fav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nfections of natural foc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(environment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r less limited areas in free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rmanently inhabited by certain types of organisms that make up the biocenosis (living communit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 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Highly infectious agent → single exposure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Other infectious agents and many non-living agents → larger quantity; longer action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and biocenosis are connected into a unique whole, a system of a higher rank, the so-called ecosystem or geobiocen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FOCU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that, together with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vertebrate ho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(and in the case of transmissible infections, the vector population), in a certain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iotop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connected by food chai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person accidentally exposed to infection during the following activ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resters, soldiers during the camps. and marches hunters, scientific research teams, mountaine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frequency of infection of people staying in a natural hot spot depends 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t spot valences (hungry ticks and ins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umber of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posure length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natural focal infections? funga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viruse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rotozoa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acter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ricketts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helmi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causative agen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n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animal species involved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ingl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-fami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donor and receptors (recip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onor and receptors (recipients) of the causative agent are populations of various specie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wild vertebrat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hosts of the causative agen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vision of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ccording to vecto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sects and spider-like arthropods) that participate in the transmission of pathogen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ngle 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lti-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litting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y siz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ocal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u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reproduction of wild animals, vectors and microorganisms is aff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asonal chang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activity of a natural hotspot (extinguishing or moving away from human settlements) is influe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uman activ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NTHROPURGIC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earch of food, wild animals br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ot spots closer to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lude domestic animals and rodents in the enzoot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rimean-Congo hemorrhagic fev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487692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CHANISM OF MAINTENANC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57200" y="1600200"/>
          <a:ext cx="8229600" cy="222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ion of causative agents in the form of a primary, independent epizootic proces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nsitive anima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or animal (receptor)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ly manifestly ill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inical for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Line 4"/>
          <p:cNvSpPr/>
          <p:nvPr/>
        </p:nvSpPr>
        <p:spPr>
          <a:xfrm flipV="1">
            <a:off x="4343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5"/>
          <p:cNvSpPr/>
          <p:nvPr/>
        </p:nvSpPr>
        <p:spPr>
          <a:xfrm>
            <a:off x="44197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56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vention of natural focal infections? It is based on knowledge of the characteristics of the enzootic process in a specif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izing contact with the reservoir and carrier of pathog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rruption of the circulation of the causative agent in the natural focus (maximum reduction of the number of reservoirs and carrier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emperature (low and hig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onizing rad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chanical agents (mechanical force, sound, shock, vib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lead to inju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work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sports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wa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respirato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digestive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k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sible mucous membran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ONE entry poi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kin - transmissible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gestive tract – most intestinal infectious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MULTIPLE points of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304920" y="1208160"/>
          <a:ext cx="8686800" cy="5661000"/>
        </p:xfrm>
        <a:graphic>
          <a:graphicData uri="http://schemas.openxmlformats.org/drawingml/2006/table">
            <a:tbl>
              <a:tblPr/>
              <a:tblGrid>
                <a:gridCol w="2819160"/>
                <a:gridCol w="2438640"/>
                <a:gridCol w="3429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entry poin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tive agent, diseas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de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trance plac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ptococcal infection, diphtheri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le mucos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sa of the digestive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o viru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of the respiratory trac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x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digestive and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nd macro lesions of the skin and visible mucous membran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ospiro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ane of the digestive tract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Flammable process at the front doo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457200" y="1600200"/>
          <a:ext cx="8229600" cy="510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, bacillary dysentery; cholera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flammatory process is retained exclusively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t the point of entry</a:t>
                      </a:r>
                      <a:r>
                        <a:rPr b="0" lang="sr-Latn-C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SP infection; epidemic mening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s penetrate further into organis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hepat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hanges in the entry site, but in the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rgans for which the causative agent has an affinity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-152640" y="0"/>
            <a:ext cx="9296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PIDEMIOLOGICAL CLASSIFICATION OF IN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DISEAS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(made on the basis of th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MAIN entry point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of the causative ag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0" y="762120"/>
          <a:ext cx="9144000" cy="6126120"/>
        </p:xfrm>
        <a:graphic>
          <a:graphicData uri="http://schemas.openxmlformats.org/drawingml/2006/table">
            <a:tbl>
              <a:tblPr/>
              <a:tblGrid>
                <a:gridCol w="2057400"/>
                <a:gridCol w="70866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les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olds, mumps, whooping cough, scarlet feve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oid fever, paratyphoid A, B, bac. dysentery, vir. hepatitis A, polio, cholera, food poisoning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or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ria, spotted typhus, relapsing typhus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ow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ever, dengue, papatachi fever, leishmaniasis, trypanosomia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unculosis, carbunculosis, phlegmon, impetigo, actinomycosis, trichophytia, favus, erysipela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nd infection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anus, gas gangren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homa, blenorrhea, conjunctivitis of various etiology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e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orrhea, syphilis, HIV infection, viral hepatitis B and C, genital herp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efinition: the tendency of the host to get sick from certain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ries under the influence of various factors, the so-called DISPOSITI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eparate from factors that increase exposure to the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eases are the result of the action of both, so we call them together conditioning factor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 FACTOR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THNIC AND RELIGIOUS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U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OCIO-ECONOMIC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THER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both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position and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ILDREN have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disposition towards the causative agents of poliomyelitis and viral hepatitis A, and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endency towards coliform bacteria and staphylococci; due to undeveloped hygiene habits, they are more exposed to intestinal 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DULTS are more exposed to sexually transmitted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sensitivity and more frequent illness of women from some infectious diseases is a consequence of certain physiological conditions 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struation (+ tuberculin test, can become 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gnancy (infections of the renal pelvis with conditionally pathogenic agents are more common; the clinical picture of viral hepatitis A is more sev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fferences in the frequency of certain diseases in men and women are not only a consequence of biological differences, but also differences in lifestyle, that is, exposure to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raffic trauma has a significant place in the structure of mortality in developed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hysical agents lead to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vidual ill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ss health disorders (nuclear accidents - Chernobyl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acial affili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ften they suffer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uberculosis, syphilis, pertussis – bl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liomyelitis - wh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CES as a result of the influence of other factors (habits, customs, socio-economic conditions), and not biological peculiarities of rac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thnicity and relig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slims are less likely to suffer from trichi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sequence of lifestyle, habits and custom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impact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occupation on disposition is difficult to ass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ttle breeders and veterinarians are more likely to suffer from some anthropozoonoses, and foresters from 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higher frequency of certain infectious diseases among members of certain professions is mainly a consequence of greater expos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cio-economic situ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way of life, living conditions and hygiene hab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improving the economic and hygienic level, the frequency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stinal infectious diseases is reduced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Urbanization with accompanying overcrowd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ilitates the spread of respirator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fectio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e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adequat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ake of proteins and some vitamins (A, S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reases susceptibility to infectious diseas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tarv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reduces the ability to create antibodies as well as the phagocytic ability of leukocyt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ther diseas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ny infectious and non-infectious diseases increase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tendency to oth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non-infectious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bacterial pneum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iabetic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infections caused by pyogenic bac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easles and pertussi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crease susceptibility to bacterial lung infections and activate tuberculosis fo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reduces resistance to inf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umber of changes occur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demics of mening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soldiers after a strenuous march, or more frequent occurrence of clinically manifest form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oliomyel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exhausting play of children infected with the causative agent of this disease, have been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cording to Selye, various stress factors, including fear, strong emotions, trauma, intense exposure to cold or heat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affect the reduction of resistance to infection through the pituitary adrenocortic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OLLECTIVE IMMUNITY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finition: the resistance of a population to certain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dividual immunity reduces the likelihood that an individual will contract a particular disease when exposed to an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llective immunity reduces the probability of an epidemic after the introduction of an agent into a population or collective, regardless of the fact that some people in that population are still susceptibl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measured by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oportion of immun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eople in a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has significance for the epidemic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makes it possible to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edict the cours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epidem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high % of immune individuals in the population reduces the possibility of contac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etween the infected and the suscept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mmune population represents a b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to the spread of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GI</dc:creator>
  <dc:description/>
  <dc:language>en-US</dc:language>
  <cp:lastModifiedBy>OGI</cp:lastModifiedBy>
  <dcterms:modified xsi:type="dcterms:W3CDTF">2023-09-26T10:20:31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